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D8475-F4A0-4E20-989E-870650456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A5D9E-447A-4D28-BC41-F4943DC7C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891D4-09E3-4E1F-96E9-7D6B0C6E0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44588-0C19-4E42-8C97-1742D219D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4DF82-12F5-40D8-A896-3AF81B2E7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9077B-4301-44E9-A107-F3C02A27E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D92C9-7F97-4463-9783-D153A27CA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B492F-6669-4FE4-A089-8D5FCF302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48542-28DF-4E9C-81F9-D627D2DE9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48CEE-7E2D-4BDE-BA02-6F2433E49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B33B5-9698-452B-8D8E-2BED2AA4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3A12C-6B34-45AB-98AB-31591BBF3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B11D3-25F9-482C-980E-A5F54BF4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60C58-8A98-491E-966A-4594E323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6216C-212F-4B18-B446-22822722F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1CD0D-DA82-4902-A494-B9EB627EE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ED699-8F0C-43C5-8587-79B13EB2A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64AB0-0F75-43AC-8833-37FA2FFC3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105D0-53D9-4F91-A96A-FF2A3051C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9FDA9-3EFF-4E1F-B233-D196F428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8E47F-DAF5-4740-BE66-7944F2C7F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FEC5B-7164-4676-9C8C-49430E7F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022E6-A0BF-4C42-AF52-E8DFA86F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FDA32-2B70-4C1B-853C-65CD1748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2D768-814C-4125-BB34-41789A17B2F6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759D5-FB0A-430B-9BD6-C83B8C6768A1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logistics"/>
          <p:cNvPicPr/>
          <p:nvPr/>
        </p:nvPicPr>
        <p:blipFill>
          <a:blip r:embed="rId1"/>
          <a:stretch/>
        </p:blipFill>
        <p:spPr>
          <a:xfrm>
            <a:off x="2786040" y="2000160"/>
            <a:ext cx="3529080" cy="3529080"/>
          </a:xfrm>
          <a:prstGeom prst="rect">
            <a:avLst/>
          </a:prstGeom>
          <a:ln w="0">
            <a:noFill/>
          </a:ln>
        </p:spPr>
      </p:pic>
      <p:sp>
        <p:nvSpPr>
          <p:cNvPr id="107" name="CaixaDeTexto 6"/>
          <p:cNvSpPr/>
          <p:nvPr/>
        </p:nvSpPr>
        <p:spPr>
          <a:xfrm>
            <a:off x="928800" y="785880"/>
            <a:ext cx="7429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5e"/>
                </a:solidFill>
                <a:latin typeface="Comic Sans MS"/>
              </a:rPr>
              <a:t>Destaques de Sucesso e Fracasso </a:t>
            </a:r>
            <a:br>
              <a:rPr sz="3600"/>
            </a:br>
            <a:r>
              <a:rPr b="0" lang="pt-BR" sz="3600" spc="-1" strike="noStrike">
                <a:solidFill>
                  <a:srgbClr val="00005e"/>
                </a:solidFill>
                <a:latin typeface="Comic Sans MS"/>
              </a:rPr>
              <a:t>	</a:t>
            </a:r>
            <a:r>
              <a:rPr b="0" lang="pt-BR" sz="3600" spc="-1" strike="noStrike">
                <a:solidFill>
                  <a:srgbClr val="00005e"/>
                </a:solidFill>
                <a:latin typeface="Comic Sans MS"/>
              </a:rPr>
              <a:t>	</a:t>
            </a:r>
            <a:r>
              <a:rPr b="0" lang="pt-BR" sz="3600" spc="-1" strike="noStrike">
                <a:solidFill>
                  <a:srgbClr val="00005e"/>
                </a:solidFill>
                <a:latin typeface="Comic Sans MS"/>
              </a:rPr>
              <a:t>em Estratégia Logís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aixaDeTexto 7"/>
          <p:cNvSpPr/>
          <p:nvPr/>
        </p:nvSpPr>
        <p:spPr>
          <a:xfrm>
            <a:off x="428760" y="58579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5e"/>
                </a:solidFill>
                <a:latin typeface="Comic Sans MS"/>
              </a:rPr>
              <a:t>Breno Fabre de Luca – RA. 15511-9 – 7º Semestre - A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6" descr="casas"/>
          <p:cNvPicPr/>
          <p:nvPr/>
        </p:nvPicPr>
        <p:blipFill>
          <a:blip r:embed="rId1"/>
          <a:stretch/>
        </p:blipFill>
        <p:spPr>
          <a:xfrm>
            <a:off x="5292720" y="260280"/>
            <a:ext cx="3492360" cy="2232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7"/>
          <p:cNvSpPr/>
          <p:nvPr/>
        </p:nvSpPr>
        <p:spPr>
          <a:xfrm>
            <a:off x="395280" y="54936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 u="sng">
                <a:solidFill>
                  <a:srgbClr val="00005e"/>
                </a:solidFill>
                <a:uFillTx/>
                <a:latin typeface="Tahoma"/>
              </a:rPr>
              <a:t>CASAS BAH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0" y="4294080"/>
            <a:ext cx="8785080" cy="25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5e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5e"/>
                </a:solidFill>
                <a:latin typeface="Comic Sans MS"/>
              </a:rPr>
              <a:t>A Casas Bahia, tem um sistema de Logística muito eficiente. Seus produtos são armazenados  em depositos, um deles em Jundiaí, o 2º maior do mundo com 300 mil m² construidos, que são situados em Postos de Distribuição bem localizados, alem de Entrepos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5e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5e"/>
                </a:solidFill>
                <a:latin typeface="Comic Sans MS"/>
              </a:rPr>
              <a:t>Fr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5e"/>
                </a:solidFill>
                <a:latin typeface="Comic Sans MS"/>
              </a:rPr>
              <a:t>Para garantir a entrega dos produtos aos clientes no prazo máximo de 48 horas, a Casas Bahia não terceiriza sua frota. A rede conta com mais de 2500 veículos pesa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6" descr="Natura-logo"/>
          <p:cNvPicPr/>
          <p:nvPr/>
        </p:nvPicPr>
        <p:blipFill>
          <a:blip r:embed="rId1"/>
          <a:stretch/>
        </p:blipFill>
        <p:spPr>
          <a:xfrm>
            <a:off x="5724360" y="333360"/>
            <a:ext cx="3203640" cy="17272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7"/>
          <p:cNvSpPr/>
          <p:nvPr/>
        </p:nvSpPr>
        <p:spPr>
          <a:xfrm>
            <a:off x="395280" y="112536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 u="sng">
                <a:solidFill>
                  <a:srgbClr val="00005e"/>
                </a:solidFill>
                <a:uFillTx/>
                <a:latin typeface="Comic Sans MS"/>
              </a:rPr>
              <a:t>NATU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468360" y="2205000"/>
            <a:ext cx="842472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5e"/>
                </a:solidFill>
                <a:latin typeface="Comic Sans MS"/>
              </a:rPr>
              <a:t>A Natura tem de 20 a 30 mil pedidos recebidos por dia, cerca de 98% deles, são entregues no praz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5e"/>
                </a:solidFill>
                <a:latin typeface="Comic Sans MS"/>
              </a:rPr>
              <a:t>Isso devido a uma excelente política de logística, desenvolvida especialmente para melhor atender as necessidades do cliente Natu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5e"/>
                </a:solidFill>
                <a:latin typeface="Comic Sans MS"/>
              </a:rPr>
              <a:t>Os produtos estão em um Armazém Vertical, mecanizado, contando com 8 funcionários dedicados à seu funcionamento, aproximadamente 52.000 posições, e um tempo médio de reposição de 2 minu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5e"/>
                </a:solidFill>
                <a:latin typeface="Comic Sans MS"/>
              </a:rPr>
              <a:t>Resumidamente, o sistema logístico da Natura, funciona da seguinte for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5e"/>
                </a:solidFill>
                <a:latin typeface="Comic Sans MS"/>
              </a:rPr>
              <a:t>O pedido chega para uma central, de onde é mandado para a produção, segue para a separação, formação de carga, Faturamento, vai para a Transportado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5e"/>
                </a:solidFill>
                <a:latin typeface="Comic Sans MS"/>
              </a:rPr>
              <a:t>A capacidade máxima é de 42 mil caixas por dia, atendendo mais de 5 mil municip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americanas"/>
          <p:cNvPicPr/>
          <p:nvPr/>
        </p:nvPicPr>
        <p:blipFill>
          <a:blip r:embed="rId1"/>
          <a:stretch/>
        </p:blipFill>
        <p:spPr>
          <a:xfrm>
            <a:off x="5715000" y="214200"/>
            <a:ext cx="3036960" cy="1873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500040" y="64296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 u="sng">
                <a:solidFill>
                  <a:srgbClr val="00005e"/>
                </a:solidFill>
                <a:uFillTx/>
                <a:latin typeface="Comic Sans MS"/>
              </a:rPr>
              <a:t>LOJAS AMERICAN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357120" y="2195640"/>
            <a:ext cx="8425080" cy="46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5e"/>
                </a:solidFill>
                <a:latin typeface="Arial"/>
              </a:rPr>
              <a:t>O americanas.com é o maior site de comercio eletrônico do país e já alcançou índices de excelência nas entregas, tendo um índice de 98% de regularidade. Sendo assim, o melhor site de compras da inter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5e"/>
                </a:solidFill>
                <a:latin typeface="Arial"/>
              </a:rPr>
              <a:t>Com pouco mais de dois anos de operação, a Americanas.com desenvolveu um modelo próprio de logística, baseado na sofisticação tecnológica, integração de processos e no relacionamento com os parceiros de transporte. A empresa vem se estruturando para um crescimento planej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5e"/>
                </a:solidFill>
                <a:latin typeface="Arial"/>
              </a:rPr>
              <a:t>Há um ano, por exemplo, a loja virtual entregava 22 mil produtos por mês. “Hoje entregamos mensalmente mais de 55 mil produtos com qualidade e rapidez exigidas pelas compras on-line”, comemora o diretor de logística da Americanas.co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5e"/>
                </a:solidFill>
                <a:latin typeface="Arial"/>
              </a:rPr>
              <a:t>Os produtos comprados na Americanas.com são retirados todos os dias em 35 viagens ao centro de distribuição da empresa, localizado em Alphaville (São Paulo). A loja virtual realiza entregas em todo o Brasil e em mais 220 países como Japão, Estados Unidos, Alemanha e out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speedy-telefonica-sem-provedor"/>
          <p:cNvPicPr/>
          <p:nvPr/>
        </p:nvPicPr>
        <p:blipFill>
          <a:blip r:embed="rId1"/>
          <a:stretch/>
        </p:blipFill>
        <p:spPr>
          <a:xfrm>
            <a:off x="6286680" y="571680"/>
            <a:ext cx="2428560" cy="1387440"/>
          </a:xfrm>
          <a:prstGeom prst="rect">
            <a:avLst/>
          </a:prstGeom>
          <a:ln w="0">
            <a:noFill/>
          </a:ln>
        </p:spPr>
      </p:pic>
      <p:sp>
        <p:nvSpPr>
          <p:cNvPr id="119" name="CaixaDeTexto 4"/>
          <p:cNvSpPr/>
          <p:nvPr/>
        </p:nvSpPr>
        <p:spPr>
          <a:xfrm>
            <a:off x="428760" y="857160"/>
            <a:ext cx="535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 u="sng">
                <a:solidFill>
                  <a:srgbClr val="00005e"/>
                </a:solidFill>
                <a:uFillTx/>
                <a:latin typeface="Comic Sans MS"/>
              </a:rPr>
              <a:t>INTERNET BANDA LARGA - SPEE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CaixaDeTexto 5"/>
          <p:cNvSpPr/>
          <p:nvPr/>
        </p:nvSpPr>
        <p:spPr>
          <a:xfrm>
            <a:off x="214200" y="2357280"/>
            <a:ext cx="8501040" cy="49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5e"/>
                </a:solidFill>
                <a:latin typeface="Comic Sans MS"/>
              </a:rPr>
              <a:t>Líder de reclamações do ranking geral do PROC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5e"/>
                </a:solidFill>
                <a:latin typeface="Comic Sans MS"/>
              </a:rPr>
              <a:t>Com quase 37% de todas as reclamações registra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5e"/>
                </a:solidFill>
                <a:latin typeface="Comic Sans MS"/>
              </a:rPr>
              <a:t>Os problemas mais freqüentes: valor e velocidade ofertados diferentes do que é lançado na fatura; indisponibilidade técnica; impedir o cancelamento do plano; oferta de upgrade sem o devido cumprimento (aumento de velocidade sem disponibilidade do serviç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5e"/>
                </a:solidFill>
                <a:latin typeface="Comic Sans MS"/>
              </a:rPr>
              <a:t>Segundo o Comitê Gestor da Internet no Brasil, os serviços prestados pela Telefônica chegaram a tal grau de deterioração pelos seguintes fa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5e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005e"/>
                </a:solidFill>
                <a:latin typeface="Comic Sans MS"/>
              </a:rPr>
              <a:t>- Erros no projeto técnico; Terceirização inadequada; Compras de equipamentos de uma qualidade duvidos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5e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005e"/>
                </a:solidFill>
                <a:latin typeface="Comic Sans MS"/>
              </a:rPr>
              <a:t>- Falta de qualificação do corpo técnico; A sustentação da Telefônica Espanha, deixando de investir no Brasil para investir na Europa; Infra-estrutura ultrapass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claro"/>
          <p:cNvPicPr/>
          <p:nvPr/>
        </p:nvPicPr>
        <p:blipFill>
          <a:blip r:embed="rId1"/>
          <a:stretch/>
        </p:blipFill>
        <p:spPr>
          <a:xfrm>
            <a:off x="6357960" y="260280"/>
            <a:ext cx="2319480" cy="2025720"/>
          </a:xfrm>
          <a:prstGeom prst="rect">
            <a:avLst/>
          </a:prstGeom>
          <a:ln w="0">
            <a:noFill/>
          </a:ln>
        </p:spPr>
      </p:pic>
      <p:sp>
        <p:nvSpPr>
          <p:cNvPr id="122" name="CaixaDeTexto 4"/>
          <p:cNvSpPr/>
          <p:nvPr/>
        </p:nvSpPr>
        <p:spPr>
          <a:xfrm>
            <a:off x="357120" y="857160"/>
            <a:ext cx="564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 u="sng">
                <a:solidFill>
                  <a:srgbClr val="00005e"/>
                </a:solidFill>
                <a:uFillTx/>
                <a:latin typeface="Comic Sans MS"/>
              </a:rPr>
              <a:t>OPERADORA DORA MÓVEL - CLA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CaixaDeTexto 5"/>
          <p:cNvSpPr/>
          <p:nvPr/>
        </p:nvSpPr>
        <p:spPr>
          <a:xfrm>
            <a:off x="285840" y="2500200"/>
            <a:ext cx="8572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5e"/>
                </a:solidFill>
                <a:latin typeface="Comic Sans MS"/>
              </a:rPr>
              <a:t>Ultimamente a empresa tem sido alvo de várias reclamações referente a instabilidades na rede e baixa velocidade de conexão na tecnologia 3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5e"/>
                </a:solidFill>
                <a:latin typeface="Comic Sans MS"/>
              </a:rPr>
              <a:t>Nos últimos meses grande parte de seus usuários constantemente fizeram queixas sobre o péssimo atendimento que lhe são pres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5e"/>
                </a:solidFill>
                <a:latin typeface="Comic Sans MS"/>
              </a:rPr>
              <a:t>Invasão da privacidade do consumidor:  Um problema técnico na operadora fez com que mensagens pessoais de usuários pudessem ser acessadas, durante duas horas e meia, por qualquer pessoa que ligasse para celulares desligados ou que caíam na secretá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5e"/>
                </a:solidFill>
                <a:latin typeface="Comic Sans MS"/>
              </a:rPr>
              <a:t>Péssima qualidade de atendimento ao consum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5e"/>
                </a:solidFill>
                <a:latin typeface="Comic Sans MS"/>
              </a:rPr>
              <a:t>Falha na prestação de serviço de Internet Banda Larga 3G. A Claro teve que pagar um valor de R$ 1 mil, por danos mora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PromoesTIM"/>
          <p:cNvPicPr/>
          <p:nvPr/>
        </p:nvPicPr>
        <p:blipFill>
          <a:blip r:embed="rId1"/>
          <a:stretch/>
        </p:blipFill>
        <p:spPr>
          <a:xfrm>
            <a:off x="6286680" y="260280"/>
            <a:ext cx="2406600" cy="1739880"/>
          </a:xfrm>
          <a:prstGeom prst="rect">
            <a:avLst/>
          </a:prstGeom>
          <a:ln w="0">
            <a:noFill/>
          </a:ln>
        </p:spPr>
      </p:pic>
      <p:sp>
        <p:nvSpPr>
          <p:cNvPr id="125" name="CaixaDeTexto 4"/>
          <p:cNvSpPr/>
          <p:nvPr/>
        </p:nvSpPr>
        <p:spPr>
          <a:xfrm>
            <a:off x="285840" y="785880"/>
            <a:ext cx="521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5e"/>
                </a:solidFill>
                <a:latin typeface="Comic Sans MS"/>
              </a:rPr>
              <a:t>OPERADORA MÓVEL - TI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CaixaDeTexto 6"/>
          <p:cNvSpPr/>
          <p:nvPr/>
        </p:nvSpPr>
        <p:spPr>
          <a:xfrm>
            <a:off x="214200" y="2928960"/>
            <a:ext cx="8572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5e"/>
                </a:solidFill>
                <a:latin typeface="Comic Sans MS"/>
              </a:rPr>
              <a:t>De acordo com o site Reclame Aqui, a Tim em 2008 recebeu avaliação de "empresa não recomendada" e em 2009 como empresa "ruim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5e"/>
                </a:solidFill>
                <a:latin typeface="Comic Sans MS"/>
              </a:rPr>
              <a:t>Em janeiro de 2009, a empresa foi multada pelo Procon em R$ 1,78 milhão devido o corte das linhas telefônicas da Casa Civil e Casa Militar do Paraná</a:t>
            </a:r>
            <a:r>
              <a:rPr b="0" lang="pt-BR" sz="1800" spc="-1" strike="noStrike">
                <a:solidFill>
                  <a:srgbClr val="00005e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5e"/>
                </a:solidFill>
                <a:latin typeface="Comic Sans MS"/>
              </a:rPr>
              <a:t>Em 2009 também foi proibida de transmitir SMS com propaganda do serviço TimCafé para seus cli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5e"/>
                </a:solidFill>
                <a:latin typeface="Comic Sans MS"/>
              </a:rPr>
              <a:t>Em fevereiro de 2010 a operadora foi condenada a pagar R$ 12 mil a uma cliente por ostentar, durante 8 meses, a frase: "Catarina quer chorar ela tem um gatinho" na fatura de uma cliente em lugar de seu nome</a:t>
            </a:r>
            <a:r>
              <a:rPr b="0" lang="pt-BR" sz="1800" spc="-1" strike="noStrike">
                <a:solidFill>
                  <a:srgbClr val="00005e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logistics"/>
          <p:cNvPicPr/>
          <p:nvPr/>
        </p:nvPicPr>
        <p:blipFill>
          <a:blip r:embed="rId1"/>
          <a:stretch/>
        </p:blipFill>
        <p:spPr>
          <a:xfrm>
            <a:off x="5641920" y="214200"/>
            <a:ext cx="3502080" cy="2571840"/>
          </a:xfrm>
          <a:prstGeom prst="rect">
            <a:avLst/>
          </a:prstGeom>
          <a:ln w="0">
            <a:noFill/>
          </a:ln>
        </p:spPr>
      </p:pic>
      <p:sp>
        <p:nvSpPr>
          <p:cNvPr id="128" name="CaixaDeTexto 4"/>
          <p:cNvSpPr/>
          <p:nvPr/>
        </p:nvSpPr>
        <p:spPr>
          <a:xfrm>
            <a:off x="428760" y="85716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5e"/>
                </a:solidFill>
                <a:latin typeface="Comic Sans MS"/>
              </a:rPr>
              <a:t>ANALISE COMPARATIV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CaixaDeTexto 5"/>
          <p:cNvSpPr/>
          <p:nvPr/>
        </p:nvSpPr>
        <p:spPr>
          <a:xfrm>
            <a:off x="214200" y="3714840"/>
            <a:ext cx="8715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5e"/>
                </a:solidFill>
                <a:latin typeface="Comic Sans MS"/>
              </a:rPr>
              <a:t>Pode-se observar claramente, que enquanto as de boa logística se preocupam muito com sua boa imagem, confiabilidade e satisfafação dos clientes, as de má qualidade, focam na lucratividade, como é o exemplo das operadoras de celular, que oferecem um péssimo serviço de logística, baixa qualidade dos serviç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5e"/>
                </a:solidFill>
                <a:latin typeface="Comic Sans MS"/>
              </a:rPr>
              <a:t>A logísca é um ponto fortíssimo a favor da organização, tendo uma boa logística, a empresa ganha a confiança de seus clientes, concequentemente, o aumento de vendas e do valor agregado a sua marca, se vinculada a uma boa imag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4T18:29:21Z</dcterms:created>
  <dc:creator>silvanapsocial</dc:creator>
  <dc:description/>
  <dc:language>en-US</dc:language>
  <cp:lastModifiedBy>Usuario</cp:lastModifiedBy>
  <dcterms:modified xsi:type="dcterms:W3CDTF">2011-03-24T21:26:30Z</dcterms:modified>
  <cp:revision>7</cp:revision>
  <dc:subject/>
  <dc:title>Slide 1</dc:title>
</cp:coreProperties>
</file>